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30.gif" ContentType="image/gif"/>
  <Override PartName="/ppt/media/image28.gif" ContentType="image/gif"/>
  <Override PartName="/ppt/media/image13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18.gif" ContentType="image/gif"/>
  <Override PartName="/ppt/media/image19.gif" ContentType="image/gif"/>
  <Override PartName="/ppt/media/image24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7E66-5824-434F-9E7B-2ECAF004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7D7-BCB6-49C5-B042-C99C68FB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53E-F577-4E80-8FB1-E11B2250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F22-046F-4EAD-A4E4-6452EBFB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A17-F4FA-4EF9-ABA6-67B51ACE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6DE-869C-48CA-8FB8-DE23D9DD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E9A-5339-42B7-A107-0E1FAAC4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18B-610E-43A5-955C-6E645C4D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6AD-3F74-4FFC-A3DC-F608C390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2F0-F86A-48B6-B776-DC7F5D12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783-AAAC-40B9-A895-8139B883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B8F-599E-4A3D-83F6-98E1BA0A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91E3-8188-43F7-88DD-2CAD4CA652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ddleschoolscience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mbers.enchantedlearning.com/geology/label/seafloorspreading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pubs.usgs.gov/gip/dynamic/unanswered.html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embers.enchantedlearning.com/geology/label/outerlayer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bers.enchantedlearning.com/geology/label/outerlayer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6479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e Tecto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Liz LaRosa for use with my 5</a:t>
            </a:r>
            <a:r>
              <a:rPr b="0" lang="en-US" sz="17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 Grade Science Class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iddleschoolscience.com</a:t>
            </a: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 2009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www.indiana.edu/~g103/G103/week11/platefit1.jpg"/>
          <p:cNvPicPr/>
          <p:nvPr/>
        </p:nvPicPr>
        <p:blipFill>
          <a:blip r:embed="rId2"/>
          <a:stretch/>
        </p:blipFill>
        <p:spPr>
          <a:xfrm>
            <a:off x="838080" y="228600"/>
            <a:ext cx="754380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 Floor Sp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ridge winding gif"/>
          <p:cNvPicPr/>
          <p:nvPr/>
        </p:nvPicPr>
        <p:blipFill>
          <a:blip r:embed="rId1"/>
          <a:stretch/>
        </p:blipFill>
        <p:spPr>
          <a:xfrm>
            <a:off x="530280" y="1143000"/>
            <a:ext cx="8308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 Floor Sp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571400"/>
            <a:ext cx="77724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 Ocean Ridges – underwater mountain chains that run through the Earth’s Bas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ma rises to the surface and solidifies and new crust 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er Crust is pu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ther away from the ri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members.enchantedlearning.com/sgifs/Seafloorspreading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352680"/>
            <a:ext cx="31096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Plates Mo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http://pubs.usgs.gov/gip/dynamic/graphics/Fig32.gif"/>
          <p:cNvPicPr/>
          <p:nvPr/>
        </p:nvPicPr>
        <p:blipFill>
          <a:blip r:embed="rId1"/>
          <a:stretch/>
        </p:blipFill>
        <p:spPr>
          <a:xfrm>
            <a:off x="304920" y="1371600"/>
            <a:ext cx="5862600" cy="4495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pubs.usgs.gov/gip/dynamic/graphics/Fig33.gif"/>
          <p:cNvPicPr/>
          <p:nvPr/>
        </p:nvPicPr>
        <p:blipFill>
          <a:blip r:embed="rId2"/>
          <a:stretch/>
        </p:blipFill>
        <p:spPr>
          <a:xfrm>
            <a:off x="6400800" y="1905120"/>
            <a:ext cx="2286000" cy="3429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828800" y="61833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pubs.usgs.gov/gip/dynamic/unanswered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erent Types of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pubs.usgs.gov/gip/dynamic/graphics/Fig13.gif"/>
          <p:cNvPicPr/>
          <p:nvPr/>
        </p:nvPicPr>
        <p:blipFill>
          <a:blip r:embed="rId1"/>
          <a:stretch/>
        </p:blipFill>
        <p:spPr>
          <a:xfrm>
            <a:off x="334800" y="1523880"/>
            <a:ext cx="8620200" cy="4772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1676520" y="64008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ubs.usgs.gov/gip/dynamic/understanding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vergent Boundary –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rabian and African Plat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33520" y="1357200"/>
            <a:ext cx="8381880" cy="5043600"/>
          </a:xfrm>
          <a:prstGeom prst="rect">
            <a:avLst/>
          </a:prstGeom>
          <a:ln w="0">
            <a:noFill/>
          </a:ln>
        </p:spPr>
      </p:pic>
      <p:sp>
        <p:nvSpPr>
          <p:cNvPr id="81" name="Right Arrow 4"/>
          <p:cNvSpPr/>
          <p:nvPr/>
        </p:nvSpPr>
        <p:spPr>
          <a:xfrm rot="19885800">
            <a:off x="4460400" y="3043080"/>
            <a:ext cx="457200" cy="6098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1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ight Arrow 5"/>
          <p:cNvSpPr/>
          <p:nvPr/>
        </p:nvSpPr>
        <p:spPr>
          <a:xfrm rot="8604000">
            <a:off x="2574720" y="3885840"/>
            <a:ext cx="457200" cy="6094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75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Rectangle 6" descr=""/>
          <p:cNvPicPr/>
          <p:nvPr/>
        </p:nvPicPr>
        <p:blipFill>
          <a:blip r:embed="rId2"/>
          <a:stretch/>
        </p:blipFill>
        <p:spPr>
          <a:xfrm>
            <a:off x="2664000" y="2548080"/>
            <a:ext cx="4017960" cy="45072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7" descr=""/>
          <p:cNvPicPr/>
          <p:nvPr/>
        </p:nvPicPr>
        <p:blipFill>
          <a:blip r:embed="rId3"/>
          <a:stretch/>
        </p:blipFill>
        <p:spPr>
          <a:xfrm>
            <a:off x="530280" y="4986360"/>
            <a:ext cx="4017960" cy="45072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8" descr=""/>
          <p:cNvPicPr/>
          <p:nvPr/>
        </p:nvPicPr>
        <p:blipFill>
          <a:blip r:embed="rId4"/>
          <a:stretch/>
        </p:blipFill>
        <p:spPr>
          <a:xfrm>
            <a:off x="3529080" y="4595760"/>
            <a:ext cx="1360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vergent Boundary –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celan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Diverging Plate Boundaries"/>
          <p:cNvPicPr/>
          <p:nvPr/>
        </p:nvPicPr>
        <p:blipFill>
          <a:blip r:embed="rId1"/>
          <a:stretch/>
        </p:blipFill>
        <p:spPr>
          <a:xfrm>
            <a:off x="2133720" y="1219320"/>
            <a:ext cx="4952880" cy="51339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981080" y="64008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ubs.usgs.gov/gip/dynamic/understanding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vergent Boundary - Ocean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geology.com/nsta/divergent-boundary-oceanic.gif"/>
          <p:cNvPicPr/>
          <p:nvPr/>
        </p:nvPicPr>
        <p:blipFill>
          <a:blip r:embed="rId1"/>
          <a:stretch/>
        </p:blipFill>
        <p:spPr>
          <a:xfrm>
            <a:off x="563400" y="2460600"/>
            <a:ext cx="8047080" cy="2873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1905120" y="63244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eology.co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ergent Boundary - Continen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geology.com/nsta/divergent-boundary-continental.gif"/>
          <p:cNvPicPr/>
          <p:nvPr/>
        </p:nvPicPr>
        <p:blipFill>
          <a:blip r:embed="rId1"/>
          <a:stretch/>
        </p:blipFill>
        <p:spPr>
          <a:xfrm>
            <a:off x="674640" y="2446200"/>
            <a:ext cx="7707240" cy="3192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1752480" y="6335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eology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gent Boundary – Indian and Eurasian Pl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324480" cy="5313240"/>
          </a:xfrm>
          <a:prstGeom prst="rect">
            <a:avLst/>
          </a:prstGeom>
          <a:ln w="0">
            <a:noFill/>
          </a:ln>
        </p:spPr>
      </p:pic>
      <p:sp>
        <p:nvSpPr>
          <p:cNvPr id="97" name="Right Arrow 3"/>
          <p:cNvSpPr/>
          <p:nvPr/>
        </p:nvSpPr>
        <p:spPr>
          <a:xfrm rot="18427200">
            <a:off x="3774960" y="3500640"/>
            <a:ext cx="457200" cy="6094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9374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ight Arrow 4"/>
          <p:cNvSpPr/>
          <p:nvPr/>
        </p:nvSpPr>
        <p:spPr>
          <a:xfrm rot="7749600">
            <a:off x="4876200" y="2122200"/>
            <a:ext cx="457200" cy="6094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8448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5" descr=""/>
          <p:cNvPicPr/>
          <p:nvPr/>
        </p:nvPicPr>
        <p:blipFill>
          <a:blip r:embed="rId2"/>
          <a:stretch/>
        </p:blipFill>
        <p:spPr>
          <a:xfrm>
            <a:off x="1974960" y="4260960"/>
            <a:ext cx="3200400" cy="64584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6" descr=""/>
          <p:cNvPicPr/>
          <p:nvPr/>
        </p:nvPicPr>
        <p:blipFill>
          <a:blip r:embed="rId3"/>
          <a:stretch/>
        </p:blipFill>
        <p:spPr>
          <a:xfrm>
            <a:off x="4035600" y="1427040"/>
            <a:ext cx="32004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rgent Boundary – Oceanic &amp; Contin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geology.com/nsta/convergent-boundary-oceanic-continental.gif"/>
          <p:cNvPicPr/>
          <p:nvPr/>
        </p:nvPicPr>
        <p:blipFill>
          <a:blip r:embed="rId1"/>
          <a:stretch/>
        </p:blipFill>
        <p:spPr>
          <a:xfrm>
            <a:off x="2286000" y="914400"/>
            <a:ext cx="4495680" cy="2946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Oceanic-Continental Converging Plates"/>
          <p:cNvPicPr/>
          <p:nvPr/>
        </p:nvPicPr>
        <p:blipFill>
          <a:blip r:embed="rId2"/>
          <a:stretch/>
        </p:blipFill>
        <p:spPr>
          <a:xfrm>
            <a:off x="2209680" y="3809880"/>
            <a:ext cx="4572000" cy="26942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1905120" y="6551640"/>
            <a:ext cx="556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pubs.usgs.gov/gip/dynamic/understanding.html  &amp; http://www.geology.c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th’s Lay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members.enchantedlearning.com/egifs/Earthscrustsm.GIF"/>
          <p:cNvPicPr/>
          <p:nvPr/>
        </p:nvPicPr>
        <p:blipFill>
          <a:blip r:embed="rId1"/>
          <a:stretch/>
        </p:blipFill>
        <p:spPr>
          <a:xfrm>
            <a:off x="304920" y="1752480"/>
            <a:ext cx="4973400" cy="38912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5410080" y="1447920"/>
            <a:ext cx="2971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Earth's rocky outer crust solidified billions of years ago, soon after the Earth form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s crust is not a solid shell; it is broken up into huge, thick plates that drift atop the soft, underlying man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gent Boundary – Oceanic &amp; Ocea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geology.com/nsta/convergent-boundary-oceanic-oceanic.gif"/>
          <p:cNvPicPr/>
          <p:nvPr/>
        </p:nvPicPr>
        <p:blipFill>
          <a:blip r:embed="rId1"/>
          <a:stretch/>
        </p:blipFill>
        <p:spPr>
          <a:xfrm>
            <a:off x="1752480" y="966960"/>
            <a:ext cx="5724720" cy="230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Oceanic-Oceanic Converging Plates"/>
          <p:cNvPicPr/>
          <p:nvPr/>
        </p:nvPicPr>
        <p:blipFill>
          <a:blip r:embed="rId2"/>
          <a:stretch/>
        </p:blipFill>
        <p:spPr>
          <a:xfrm>
            <a:off x="1828800" y="3505320"/>
            <a:ext cx="5257800" cy="3098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1752480" y="6627960"/>
            <a:ext cx="55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pubs.usgs.gov/gip/dynamic/understanding.html  &amp; http://www.geology.c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5" descr=""/>
          <p:cNvPicPr/>
          <p:nvPr/>
        </p:nvPicPr>
        <p:blipFill>
          <a:blip r:embed="rId3"/>
          <a:stretch/>
        </p:blipFill>
        <p:spPr>
          <a:xfrm>
            <a:off x="5608800" y="2944800"/>
            <a:ext cx="30970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gent Boundaries - Contin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geology.com/nsta/convergent-boundary.gif"/>
          <p:cNvPicPr/>
          <p:nvPr/>
        </p:nvPicPr>
        <p:blipFill>
          <a:blip r:embed="rId1"/>
          <a:stretch/>
        </p:blipFill>
        <p:spPr>
          <a:xfrm>
            <a:off x="1828800" y="1447920"/>
            <a:ext cx="5165640" cy="1687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ontinental-Continental Converging Plates"/>
          <p:cNvPicPr/>
          <p:nvPr/>
        </p:nvPicPr>
        <p:blipFill>
          <a:blip r:embed="rId2"/>
          <a:stretch/>
        </p:blipFill>
        <p:spPr>
          <a:xfrm>
            <a:off x="1828800" y="3429000"/>
            <a:ext cx="5105520" cy="3009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1600200" y="6551640"/>
            <a:ext cx="55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pubs.usgs.gov/gip/dynamic/understanding.html  &amp; http://www.geology.c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orm Boundary – San Andreas Fa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http://geology.com/nsta/transform-boundary.gif"/>
          <p:cNvPicPr/>
          <p:nvPr/>
        </p:nvPicPr>
        <p:blipFill>
          <a:blip r:embed="rId1"/>
          <a:stretch/>
        </p:blipFill>
        <p:spPr>
          <a:xfrm>
            <a:off x="2436840" y="1600200"/>
            <a:ext cx="6402240" cy="3657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3276720" y="5943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geology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an Andreas fault gif"/>
          <p:cNvPicPr/>
          <p:nvPr/>
        </p:nvPicPr>
        <p:blipFill>
          <a:blip r:embed="rId2"/>
          <a:stretch/>
        </p:blipFill>
        <p:spPr>
          <a:xfrm>
            <a:off x="122400" y="1600200"/>
            <a:ext cx="2544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3 main layers of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tectonic pl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Pang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Sea-Floor spread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three different types of plate boundaries and one location on Earth for each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r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4771800"/>
            <a:ext cx="678168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ermost l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– 100 km thi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of Oxygen, Silicon, Alumin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members.enchantedlearning.com/ogifs/outerlayersearth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371600"/>
            <a:ext cx="429264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an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71760"/>
            <a:ext cx="38098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yer of Earth between the crust and the co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ains most of the Earth’s ma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 more magnesium and less aluminum and silicon than the c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denser than the c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members.enchantedlearning.com/ogifs/outerlayersearth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801800"/>
            <a:ext cx="441972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1571400"/>
            <a:ext cx="3657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ow the mantle and to the center of the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ieved to be mostly Iron, smaller amounts of Nickel, almost no Oxygen, Silicon, Aluminum, or Magnes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http://static.howstuffworks.com/gif/compass-core.gif"/>
          <p:cNvPicPr/>
          <p:nvPr/>
        </p:nvPicPr>
        <p:blipFill>
          <a:blip r:embed="rId1"/>
          <a:stretch/>
        </p:blipFill>
        <p:spPr>
          <a:xfrm>
            <a:off x="4648320" y="1519200"/>
            <a:ext cx="42670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tonic Pl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Link to USGS home page"/>
          <p:cNvPicPr/>
          <p:nvPr/>
        </p:nvPicPr>
        <p:blipFill>
          <a:blip r:embed="rId1"/>
          <a:stretch/>
        </p:blipFill>
        <p:spPr>
          <a:xfrm>
            <a:off x="647640" y="1171440"/>
            <a:ext cx="803916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e Tecto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1571760"/>
            <a:ext cx="77724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k – “tektonikos” of a buil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eces of the lithosphere that move a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late has a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t together like jigsaw puzz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at on top of mantle similar to ice cubes in a bowl of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ental Dr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55520" y="-960480"/>
            <a:ext cx="247644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Continental Drift"/>
          <p:cNvPicPr/>
          <p:nvPr/>
        </p:nvPicPr>
        <p:blipFill>
          <a:blip r:embed="rId1"/>
          <a:stretch/>
        </p:blipFill>
        <p:spPr>
          <a:xfrm>
            <a:off x="609480" y="1542960"/>
            <a:ext cx="4953240" cy="40197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3"/>
          <p:cNvSpPr/>
          <p:nvPr/>
        </p:nvSpPr>
        <p:spPr>
          <a:xfrm>
            <a:off x="1219320" y="6248520"/>
            <a:ext cx="647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http://members.enchantedlearning.com/subjects/astronomy/planets/earth/Continents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5715000" y="1219320"/>
            <a:ext cx="304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lfred Wegener 190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ntinents were once a single land mass that drifted a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Fossils of the same plants and animals are found on different conti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alled this supercontinent Pangea, Greek for “all Eart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245 Million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plit again – Laurasia &amp; Gondwana 180 million years ag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dence of Pang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pubs.usgs.gov/gip/dynamic/graphics/Fig4.gif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1:31:33Z</dcterms:created>
  <dc:creator>Liz</dc:creator>
  <dc:description/>
  <dc:language>en-US</dc:language>
  <cp:lastModifiedBy>drobbins</cp:lastModifiedBy>
  <dcterms:modified xsi:type="dcterms:W3CDTF">2012-02-03T17:09:49Z</dcterms:modified>
  <cp:revision>34</cp:revision>
  <dc:subject/>
  <dc:title>Plate Tectonics</dc:title>
</cp:coreProperties>
</file>